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AF7-C935-4E2C-9D23-BD15480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9DA-8D6A-443C-A8FB-ACC6B8A0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0B4-8F9B-40A0-87F6-AA415A5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EAE-FC0D-415C-9E1E-011CABD2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364-9CB7-4EC4-AF4A-5BAE5F9C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7B6-7155-432A-A0FB-761543A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63F6-7D21-429A-AA04-C955AB61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5E8-126C-4AE4-9EF6-733E21C1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07A1-CE1B-4F22-BB6D-0F91B49D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6D1-68C5-4BE1-BFED-98CAECC0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6A7-BA7B-455C-B157-ABFAA1B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3A4-7421-4570-BD37-C0A80C6D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A892-FF54-4632-AA8A-D36BDAC1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1E3-7D9B-447B-BDF9-6CE9669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369-2217-47B5-86BD-59647CB5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318E-3D27-4805-9C98-A8A47BCB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91A-DA61-4947-B666-F1AFA35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F90-5912-4919-9626-EC661C8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AA6-B170-43A2-A749-58D01BB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C96-BFE0-4E9E-9F1B-0D86C1D7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158-C294-4931-B4A8-90F90D5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3EB-EFE7-46B4-AC34-14B847C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02A-3DC9-4A92-A8A6-69DFCF4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88A-0AE2-40E2-BD4F-C0E65FF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586-7F2D-4C75-BE31-9DAFA1ACE6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160"/>
            <a:ext cx="6896520" cy="5451840"/>
            <a:chOff x="2010600" y="245160"/>
            <a:chExt cx="689652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1120"/>
              <a:ext cx="946080" cy="709920"/>
              <a:chOff x="3483000" y="951120"/>
              <a:chExt cx="94608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1120"/>
                <a:ext cx="946080" cy="7099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288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160"/>
              <a:ext cx="6896520" cy="5451840"/>
              <a:chOff x="2010600" y="245160"/>
              <a:chExt cx="689652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160"/>
                <a:ext cx="6891480" cy="5451840"/>
                <a:chOff x="2010600" y="245160"/>
                <a:chExt cx="689148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601800" cy="2650680"/>
                  <a:chOff x="3735720" y="1266480"/>
                  <a:chExt cx="360180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60180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45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160"/>
                  <a:ext cx="6891480" cy="5451840"/>
                  <a:chOff x="2010600" y="245160"/>
                  <a:chExt cx="689148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0560"/>
                    <a:ext cx="2557440" cy="2741760"/>
                    <a:chOff x="5762160" y="2320560"/>
                    <a:chExt cx="2557440" cy="27417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7880"/>
                      <a:ext cx="212652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840" y="414324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080" y="2149200"/>
                    <a:ext cx="3039840" cy="2528640"/>
                    <a:chOff x="5788080" y="2149200"/>
                    <a:chExt cx="303984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320"/>
                      <a:ext cx="120204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480" y="2063880"/>
                    <a:ext cx="3097080" cy="1992600"/>
                    <a:chOff x="5775480" y="2063880"/>
                    <a:chExt cx="309708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19640"/>
                      <a:ext cx="213948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68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7600" cy="1001880"/>
                    <a:chOff x="5806080" y="1878120"/>
                    <a:chExt cx="293760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20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3680"/>
                    <a:ext cx="2658600" cy="443520"/>
                    <a:chOff x="5851440" y="1813680"/>
                    <a:chExt cx="265860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076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200"/>
                      <a:ext cx="9295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800"/>
                    <a:chOff x="5788440" y="1304640"/>
                    <a:chExt cx="2364120" cy="78480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20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7280" y="2365200"/>
                    <a:ext cx="3038760" cy="2532960"/>
                    <a:chOff x="2087280" y="2365200"/>
                    <a:chExt cx="303876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668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70800" y="3940560"/>
                      <a:ext cx="1202040" cy="673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1200" y="2282760"/>
                    <a:ext cx="3093120" cy="1990080"/>
                    <a:chOff x="2041200" y="2282760"/>
                    <a:chExt cx="3093120" cy="19900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160"/>
                      <a:ext cx="213804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89520"/>
                    <a:ext cx="3132360" cy="1608840"/>
                    <a:chOff x="2010600" y="2189520"/>
                    <a:chExt cx="31323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8400"/>
                      <a:ext cx="206640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88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9000" y="2096280"/>
                    <a:ext cx="2937960" cy="999360"/>
                    <a:chOff x="2169000" y="2096280"/>
                    <a:chExt cx="2937960" cy="9993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22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5000" y="2427480"/>
                      <a:ext cx="102204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9320"/>
                    <a:ext cx="2656440" cy="448560"/>
                    <a:chOff x="2403720" y="2029320"/>
                    <a:chExt cx="265644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67480"/>
                      <a:ext cx="172980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048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960"/>
                    <a:ext cx="2324880" cy="1081800"/>
                    <a:chOff x="2887560" y="1236960"/>
                    <a:chExt cx="232488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360" cy="1505880"/>
                    <a:chOff x="3161520" y="831600"/>
                    <a:chExt cx="2169360" cy="15058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1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240" y="333360"/>
                    <a:ext cx="1461600" cy="1888560"/>
                    <a:chOff x="4026240" y="333360"/>
                    <a:chExt cx="1461600" cy="18885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4760" y="1443240"/>
                      <a:ext cx="13593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1280" y="54432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1400" cy="1947240"/>
                    <a:chOff x="4448160" y="245160"/>
                    <a:chExt cx="112140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364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240"/>
                    <a:ext cx="2199600" cy="1451160"/>
                    <a:chOff x="5529600" y="624240"/>
                    <a:chExt cx="219960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776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0856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5560"/>
                    <a:ext cx="126540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60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3200" y="268200"/>
                    <a:ext cx="1198800" cy="1900800"/>
                    <a:chOff x="5353200" y="268200"/>
                    <a:chExt cx="119880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4280" y="141624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360" y="483480"/>
                      <a:ext cx="70308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400" y="385920"/>
                    <a:ext cx="1890720" cy="1795680"/>
                    <a:chOff x="5351400" y="385920"/>
                    <a:chExt cx="189072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320" y="1384920"/>
                      <a:ext cx="14245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5120" y="581400"/>
                      <a:ext cx="765720" cy="52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90520"/>
                    <a:ext cx="425160" cy="1796040"/>
                    <a:chOff x="545796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52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3960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4680" y="2528280"/>
                    <a:ext cx="2194920" cy="3001680"/>
                    <a:chOff x="3064680" y="2528280"/>
                    <a:chExt cx="219492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200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2600" y="4588560"/>
                      <a:ext cx="11383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2240" y="2648880"/>
                    <a:ext cx="1485000" cy="3000240"/>
                    <a:chOff x="3792240" y="2648880"/>
                    <a:chExt cx="148500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40040" y="3438720"/>
                      <a:ext cx="196740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8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6840" y="2699640"/>
                    <a:ext cx="870840" cy="2926440"/>
                    <a:chOff x="4506840" y="2699640"/>
                    <a:chExt cx="870840" cy="29264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0960" y="3485880"/>
                      <a:ext cx="188748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5640"/>
                      <a:ext cx="101160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5400" y="2482200"/>
                    <a:ext cx="2280960" cy="2950920"/>
                    <a:chOff x="5675400" y="2482200"/>
                    <a:chExt cx="2280960" cy="29509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3680" y="32490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760"/>
                      <a:ext cx="11386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4160"/>
                    <a:ext cx="1757160" cy="3031560"/>
                    <a:chOff x="5646600" y="2594160"/>
                    <a:chExt cx="1757160" cy="30315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520"/>
                      <a:ext cx="203256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9680" y="4719600"/>
                      <a:ext cx="109044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320" y="2710080"/>
                    <a:ext cx="1225800" cy="2986920"/>
                    <a:chOff x="5575320" y="2710080"/>
                    <a:chExt cx="122580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000" y="4881240"/>
                      <a:ext cx="105948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7320" cy="2781000"/>
                    <a:chOff x="5521320" y="2836800"/>
                    <a:chExt cx="697320" cy="27810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4680"/>
                      <a:ext cx="18144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240"/>
                      <a:ext cx="9745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120"/>
                    <a:ext cx="663120" cy="2718720"/>
                    <a:chOff x="4961160" y="2886120"/>
                    <a:chExt cx="663120" cy="27187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320" y="3663720"/>
                      <a:ext cx="17726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280"/>
                      <a:ext cx="95112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6440"/>
                    <a:ext cx="316548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1040"/>
                    <a:ext cx="17582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332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040" y="680400"/>
                    <a:ext cx="2282400" cy="284184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3200" cy="284184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440" y="834480"/>
                    <a:ext cx="515160" cy="187992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9000" y="2179800"/>
                  <a:ext cx="544680" cy="103212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3160"/>
              <a:ext cx="6414840" cy="4710960"/>
              <a:chOff x="2342880" y="713160"/>
              <a:chExt cx="641484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480" y="323640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720" y="2581200"/>
                <a:ext cx="2615760" cy="28429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440" y="2123280"/>
                <a:ext cx="1537200" cy="29354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9520"/>
                <a:ext cx="2932200" cy="29354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9000" y="2151720"/>
                <a:ext cx="470160" cy="29354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2120" y="2138040"/>
                <a:ext cx="1238760" cy="29354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440" y="354852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8040"/>
                <a:ext cx="545400" cy="10339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680" y="3385800"/>
                <a:ext cx="1338840" cy="1880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960"/>
                <a:ext cx="857160" cy="1880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5000" y="3109320"/>
                <a:ext cx="1242720" cy="1973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440" y="2111040"/>
                <a:ext cx="1874520" cy="1316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9000" y="713160"/>
                <a:ext cx="817920" cy="17694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560" y="2154960"/>
                <a:ext cx="545400" cy="1032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E31-A88C-444F-BACC-732005F26D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резентаци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к внеклассному мероприятию во 2 классе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«Дети  войны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для учащихся начальной школ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освященная  70-й годовщине Победы в Великой Отечественной войн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2015 год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42447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йна – это 20 часов у станка в день. Это урожай, выросший на солёной от пота земле. Это кровавые мозоли на ладонях таких же девчонок и мальчишек, как ты. Война – это отнятое детство 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Picture 9" descr="Изготовление артиллерийских снарядов"/>
          <p:cNvPicPr/>
          <p:nvPr/>
        </p:nvPicPr>
        <p:blipFill>
          <a:blip r:embed="rId1"/>
          <a:stretch/>
        </p:blipFill>
        <p:spPr>
          <a:xfrm>
            <a:off x="4643280" y="260280"/>
            <a:ext cx="3961080" cy="3240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Хлеб для партизан"/>
          <p:cNvPicPr/>
          <p:nvPr/>
        </p:nvPicPr>
        <p:blipFill>
          <a:blip r:embed="rId2"/>
          <a:stretch/>
        </p:blipFill>
        <p:spPr>
          <a:xfrm>
            <a:off x="4643280" y="3573360"/>
            <a:ext cx="396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93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ойна – дело жестокое. Мы называем её Великой, потому что велико мужество народа и велик его гнев. Мы называем её Отечественной, потому, что все защищали своё Отечество – самое дорогое, что есть у людей. Мы называем её народной, потому что весь наш народ поднялся на борьбу с захватчиками.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гда пробил час тревоги, когда над страной нависли зловещие тучи фашизма, все поднялись с оружием в руках, чтобы защитить свою страну. Дети мирного трудового народа встали со взрослыми плечом к плечу и тоже взяли в руки оружие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Picture 8" descr="Юный партизан, награжденный медалью За отвагу"/>
          <p:cNvPicPr/>
          <p:nvPr/>
        </p:nvPicPr>
        <p:blipFill>
          <a:blip r:embed="rId1"/>
          <a:stretch/>
        </p:blipFill>
        <p:spPr>
          <a:xfrm>
            <a:off x="4500720" y="260280"/>
            <a:ext cx="4319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4832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Многие мальчики и девочки по зову своих юных сердец стали подпольщиками, пришли в партизанские отряды, чтобы мстить врагу за погибших родных и друзей, за сожжённые жилища - за все злодеяния, совершённые фашистами на нашей земле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Picture 7" descr="В партизанском лесу"/>
          <p:cNvPicPr/>
          <p:nvPr/>
        </p:nvPicPr>
        <p:blipFill>
          <a:blip r:embed="rId1"/>
          <a:stretch/>
        </p:blipFill>
        <p:spPr>
          <a:xfrm>
            <a:off x="179280" y="260280"/>
            <a:ext cx="482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ногие из этих ребят удостоены высоких правительственных наград. Многие из них отдали свои жизни, защищая Родину. Неувядаемой славой покрыли себя дети-герои Великой Отечественной войны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Picture 9" descr="Изображение 021"/>
          <p:cNvPicPr/>
          <p:nvPr/>
        </p:nvPicPr>
        <p:blipFill>
          <a:blip r:embed="rId1"/>
          <a:stretch/>
        </p:blipFill>
        <p:spPr>
          <a:xfrm>
            <a:off x="755640" y="1844640"/>
            <a:ext cx="3887640" cy="2117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Изображение 022"/>
          <p:cNvPicPr/>
          <p:nvPr/>
        </p:nvPicPr>
        <p:blipFill>
          <a:blip r:embed="rId2"/>
          <a:stretch/>
        </p:blipFill>
        <p:spPr>
          <a:xfrm>
            <a:off x="755640" y="4114800"/>
            <a:ext cx="4176720" cy="255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Изображение 030"/>
          <p:cNvPicPr/>
          <p:nvPr/>
        </p:nvPicPr>
        <p:blipFill>
          <a:blip r:embed="rId3"/>
          <a:stretch/>
        </p:blipFill>
        <p:spPr>
          <a:xfrm>
            <a:off x="5076720" y="1557360"/>
            <a:ext cx="3598920" cy="2405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Изображение 024"/>
          <p:cNvPicPr/>
          <p:nvPr/>
        </p:nvPicPr>
        <p:blipFill>
          <a:blip r:embed="rId4"/>
          <a:stretch/>
        </p:blipFill>
        <p:spPr>
          <a:xfrm>
            <a:off x="5149800" y="4114800"/>
            <a:ext cx="37432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333360"/>
            <a:ext cx="3809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аля Котик. 13 лет. Герой Советского Союза. Партизанский разведчик. Погиб, в одиночку охраняя от немцев склад боеприпасов в феврале 1944 года в городе Изяславе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арат Казей.13 лет. Герой Советского Союза. Разведчик партизанской бригады. Погиб от ран, когда, спасая своих товарищей-партизан, доставил срочное донесение о нападении на них немцев в партизанский отряд в марте 1944 год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Picture 8" descr="сканирование0001"/>
          <p:cNvPicPr/>
          <p:nvPr/>
        </p:nvPicPr>
        <p:blipFill>
          <a:blip r:embed="rId1"/>
          <a:stretch/>
        </p:blipFill>
        <p:spPr>
          <a:xfrm>
            <a:off x="5364000" y="26028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5364000" y="3357720"/>
            <a:ext cx="280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333000"/>
            <a:ext cx="38098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ася Коробко. 12 лет. Партизан-подрывник. Он уничтожил 9 фашистских эшелонов, 10 паровозов, убил около 400 гитлеровцев. Погиб в бою весной 1944 года в Белорусси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лодя Черинов. 16 лет. Герой Советского Союза. Краснофлотец. Служил мотористом на катере, обеспечивавшем высадку десанта. Дошел до Берлина. Погиб, спасая людей с охваченного пламенем парома на реке Шпрее весной 1945 год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6" name="Picture 8" descr="сканирование0003"/>
          <p:cNvPicPr/>
          <p:nvPr/>
        </p:nvPicPr>
        <p:blipFill>
          <a:blip r:embed="rId1"/>
          <a:stretch/>
        </p:blipFill>
        <p:spPr>
          <a:xfrm>
            <a:off x="4932360" y="189000"/>
            <a:ext cx="3311640" cy="3095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сканирование0004"/>
          <p:cNvPicPr/>
          <p:nvPr/>
        </p:nvPicPr>
        <p:blipFill>
          <a:blip r:embed="rId2"/>
          <a:stretch/>
        </p:blipFill>
        <p:spPr>
          <a:xfrm>
            <a:off x="4932360" y="364500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40360" y="404280"/>
            <a:ext cx="43178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Юта Бондаровская. 14 лет. Ленинградка. Партизанка- разведчица. Погибла в бою на берегу Чудского озера в феврале 1944 год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Лара Михеенко.14 лет. Партизанка-разведчица. Связная. Расстреляна немцами в ноябре 1943 года в Калининской област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8" descr="сканирование0008"/>
          <p:cNvPicPr/>
          <p:nvPr/>
        </p:nvPicPr>
        <p:blipFill>
          <a:blip r:embed="rId1"/>
          <a:stretch/>
        </p:blipFill>
        <p:spPr>
          <a:xfrm>
            <a:off x="1116000" y="33336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сканирование"/>
          <p:cNvPicPr/>
          <p:nvPr/>
        </p:nvPicPr>
        <p:blipFill>
          <a:blip r:embed="rId2"/>
          <a:stretch/>
        </p:blipFill>
        <p:spPr>
          <a:xfrm>
            <a:off x="1116000" y="357336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42447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Девятое мая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Это праздник побед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Девятое мая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Это праздник для всех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Девятое мая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иру – свобода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Девятое мая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ава народ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ава всем тем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то народ защищал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ава всем тем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то войну побеждал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ава всем воинам нашей страны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амять о вас мы в сердцах сохраним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4" name="Picture 13" descr="Изображение 007"/>
          <p:cNvPicPr/>
          <p:nvPr/>
        </p:nvPicPr>
        <p:blipFill>
          <a:blip r:embed="rId1"/>
          <a:stretch/>
        </p:blipFill>
        <p:spPr>
          <a:xfrm>
            <a:off x="4859280" y="260280"/>
            <a:ext cx="3600360" cy="3397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Встреча участников Парада Победы 1945 г"/>
          <p:cNvPicPr/>
          <p:nvPr/>
        </p:nvPicPr>
        <p:blipFill>
          <a:blip r:embed="rId2"/>
          <a:stretch/>
        </p:blipFill>
        <p:spPr>
          <a:xfrm>
            <a:off x="4572000" y="3789360"/>
            <a:ext cx="439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58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8800" spc="-1" strike="noStrike">
                <a:solidFill>
                  <a:srgbClr val="ffffff"/>
                </a:solidFill>
                <a:latin typeface="Arial Black"/>
              </a:rPr>
              <a:t>9 МА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Arial Black"/>
              </a:rPr>
              <a:t>День Победы!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59920"/>
            <a:ext cx="77724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Лето 1941 года началось замечательно для многих мальчишек и девчонок. Лето обещало свои радости. Ярко светило солнце, разноцветным ковром стелились цветы на лугах, Ласково плескались волны в Чёрном море… Лето для выпускников школ – пора экзаменов и прощальный школьный вальс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 Black"/>
              </a:rPr>
              <a:t>22июня в  4 часа  утра     началась Великая Отечественная Война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 вечере школьно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дорные вальсы звучат…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первые робея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альчишки глядят на девчат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альчишки, мальчишки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друг сердце забилось в груди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альчишки, мальчишки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то будет у вас впереди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гда протрубил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ревогу в любимом краю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Застыли мальчишк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суровом солдатском строю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395280" y="1989000"/>
            <a:ext cx="3816360" cy="453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Изображение 003"/>
          <p:cNvPicPr/>
          <p:nvPr/>
        </p:nvPicPr>
        <p:blipFill>
          <a:blip r:embed="rId2"/>
          <a:stretch/>
        </p:blipFill>
        <p:spPr>
          <a:xfrm>
            <a:off x="4643280" y="191628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41716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Мальчишки,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мальчишки,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ы завтр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ходите в бой,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Мальчишки, мальчишки,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ернитесь живыми домой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7" descr="Изображение 004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 первый день войны им было по 17, 18 лет. Из каждых ста ребят этого возраста, ушедших на фронт, 97 не вернулись назад. 97 из 100! Вот она, война!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42447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йна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это 1725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разрушенных и сожжённых городов и посёлков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свыше 70 тысяч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сёл и деревень. Война – эт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32 тысячи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взорванных заводов и фабрик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65 тысяч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железнодорожных путей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Picture 14" descr="Немцы похозяйничали"/>
          <p:cNvPicPr/>
          <p:nvPr/>
        </p:nvPicPr>
        <p:blipFill>
          <a:blip r:embed="rId1"/>
          <a:stretch/>
        </p:blipFill>
        <p:spPr>
          <a:xfrm>
            <a:off x="4716360" y="33336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" descr="На одной из разрушенных немцами улиц Варшавы"/>
          <p:cNvPicPr/>
          <p:nvPr/>
        </p:nvPicPr>
        <p:blipFill>
          <a:blip r:embed="rId2"/>
          <a:stretch/>
        </p:blipFill>
        <p:spPr>
          <a:xfrm>
            <a:off x="4643280" y="400536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ойна – это 900 дней и ночей блокадного Ленинграда. Это 125 граммов хлеба в сутки. Это тонны бомб и снарядов, падающих на мирных людей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Picture 8" descr="Блокадная ночь в Ленинграде"/>
          <p:cNvPicPr/>
          <p:nvPr/>
        </p:nvPicPr>
        <p:blipFill>
          <a:blip r:embed="rId1"/>
          <a:stretch/>
        </p:blipFill>
        <p:spPr>
          <a:xfrm>
            <a:off x="4427640" y="260280"/>
            <a:ext cx="4321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коло 40 миллионов советских людей погибло. Представляете, что это значит? Это значит – 30 убитых на 2 метра земли, 28 тысяч убитых ежедневно. Это значит – каждый четвёртый житель страны погиб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Picture 9" descr="Трупы советских граждан, обнаруженные на территории гитлеров"/>
          <p:cNvPicPr/>
          <p:nvPr/>
        </p:nvPicPr>
        <p:blipFill>
          <a:blip r:embed="rId1"/>
          <a:stretch/>
        </p:blipFill>
        <p:spPr>
          <a:xfrm>
            <a:off x="4284720" y="260280"/>
            <a:ext cx="45352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8:52:33Z</dcterms:created>
  <dc:creator>УЧИТЕЛЬ</dc:creator>
  <dc:description/>
  <dc:language>en-US</dc:language>
  <cp:lastModifiedBy>13 кабинет</cp:lastModifiedBy>
  <dcterms:modified xsi:type="dcterms:W3CDTF">2015-03-31T08:06:58Z</dcterms:modified>
  <cp:revision>7</cp:revision>
  <dc:subject/>
  <dc:title>Слайд 1</dc:title>
</cp:coreProperties>
</file>